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00DD-8D18-4B73-868D-8BA07A418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8D47-1E88-4B30-9685-2BF6B765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D3B2C-E39E-417E-94A3-DEBDCC3C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00A1CF-E197-4DC3-AF7A-5E3A1B79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B0AEC9-6927-42D5-9666-B8B3F7A3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03CC9-3F12-43D9-9633-784D6615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FEC8DD-C4CC-4CEA-8B0B-D6623F37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A00688-82E1-4F6D-86AB-F4975647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742B86-DC83-49E3-9E07-07D05BAA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800185-BA72-4F7B-840B-2F505B536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D6AC39-3E87-41F8-B9EE-07C419DD5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92646B-122F-4094-B7C5-C5AB656FC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3D87-8D24-4185-960C-E21973150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F3FCD7-EEF6-4A52-9214-A3E43143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988567-9DCC-4923-9CB4-A15164D8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3FE3C7-8EA9-49DA-BC3F-910F8E48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163484-54D6-4D49-B815-94E06155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141D3D-0CDD-4263-B81F-C042932B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CA53E1-00D9-41BA-B1F8-AC2C77B6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36DB89-17AE-451B-B212-3BA51BDB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98CAE2-3F2D-4663-9AD6-62C50A3A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514F2D-D4D8-450B-B8AA-D9CD1AFA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78E162-C67B-40F9-B663-7E574F8FB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C559-8671-4D4D-9E9E-17AAC9FA5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50A87D-F512-48BF-9B3A-FEABF9B69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A14794-F4C5-4A38-88FD-458EC0C23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3BCBC9-77E2-4D96-8ED9-24C0F538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5DE8F1-3D47-44D0-9CF3-523C2E76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9D6713-B54A-46AF-90E2-9474E561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781AA-71F3-46EE-AABA-84CFDA6D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E1397-9ADD-4E3C-9069-473D79B0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A935C3-F84D-46E0-B881-3429BDEF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F06CD-E44E-4CDF-9F26-C6DFCB64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2583DF-B76B-4D50-9145-84FC6CED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1A39-0D25-4CF6-8F9D-95B998E79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F53C1-A67D-4010-AADB-7DD489CA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CAC148-56F2-41D5-8C1C-CD1636927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6FEDCF-C8AE-49C8-AF3D-CCC6D96E5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12C7CB-366C-4305-B1FB-101C65315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75A203-0BFA-48DF-92FA-8C8CA0B0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D7B072-809D-4694-91F0-BE3764AF1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5273A6-EF61-44C0-858D-A703F748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AF5103-0C22-473C-A574-190699E8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FD0F0E-98FE-4F1D-BC7C-F7C549C4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54BC0E-6894-4066-B9D0-6ADD0136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55BF-79AF-4C91-94B9-133CBD07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06C086-7647-434B-8FC5-21813AEB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FBE6F4-DA02-44EC-9760-5C003288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F34721-FF96-4B52-B7CB-152AC844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66B292-493C-4D09-8FB1-3EBD90D05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2EA583-CB6E-434D-A8FB-CFBADC72F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3F5404-461F-4DA9-88C7-270F8167D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ABB0BF-4CEF-410D-9C3D-2ED4CFF2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90BC78-206D-4C48-BC58-F92B4A3F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06DE3B-DEFE-41E0-8F66-2099AA44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CEAC89-1DD7-466F-A0A6-59C2A71A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0751-6C6A-42D8-BC27-B1C98ECE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146238-430C-4FF4-BFC7-20D1F3E0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462CE0-3EB8-4534-9595-398D1DF1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B93540-9CE3-4455-8529-34FFB3C0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0C1F1E-43CB-4045-8E74-BA9793AE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1DC09D-B9C3-43AD-8851-B94372C2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1F4A57-94AC-4164-B403-BC8829412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2BC585-C184-4997-AA69-6EB13B290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3337E1-C297-4907-B021-EE8EBD212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2F79EA-F322-4718-864D-F02B8234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44445F-2399-4EEC-952D-A753DD7D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5D62-5B3B-47F4-933F-492C6F18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29BB2E-3845-47B5-8421-B341B83B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0C5EB7-F967-4BD5-9456-38959305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12122A-6F6E-4940-8687-DE1F64DD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604DC3-7C72-4C8B-9F20-7B261612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9C04FA-983A-45D8-BCE4-087B9470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FEE4E1-9650-4B8C-8024-44964F17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790157-CD40-4173-A2D4-330185D2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713033-D15B-41E5-AF91-0EA37F368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B5CE59-1C55-4FF9-BAE6-4C4419565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E9D15D-3928-45A9-A2C0-C1AA4C5BE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E814-F940-4EFE-AB42-EEC4DC40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676574-523C-48C8-9D13-80EEC2FA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2885E6-3D11-410B-8E03-135E4623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2D12F9-58D5-4866-9F0C-539AA7F1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1CBAA9-91DA-48E1-94F9-00B6EB92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439F67-2A5E-46DA-9F46-BFDBE165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3C8738-6267-4792-9131-610F25CB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E713C4-035C-4967-B3AF-C1591E9D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E0CFCA-1C84-4E14-8845-4D7E6361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FECCDA-9EC0-4F68-B790-56FDCDFF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27A0D4-22E2-4A3D-A3CD-06865BBBB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BEA3-9053-4F15-B09F-6280CF5E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71FA79-36D9-4E21-B58E-25CC62E2E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0B0B62-763B-4C92-85B4-01888F6E5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FDD7D8-C33E-4F60-BB0C-CA5C76B1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E508DC-6AC2-47D5-B415-C9D680C2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0A405A-F972-4540-85A0-0F30E442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691D64-83C7-4220-B5D1-B4121DA7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E523F9-D51F-44D1-85E5-355ECBD9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E159EF-C086-4656-BB73-BA9AE969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E07542-A63D-4E1D-B39C-6490C814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C6B183-0DA8-4095-A4BA-68ED87E2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F253D-3B27-4059-9E3D-2DF0EF4C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EB94D8-73DA-41B2-82E5-E55F9001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9C81A4-B37A-4CDA-9820-4AE4CF279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118620-18D3-486D-8801-BF72B9A13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203C29-46A6-4CB7-8B91-DB256F95D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DFE4AE-C188-4DB1-82DF-33089521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9E78AA-A042-4B23-9A60-B969917A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A88957-4358-4BC4-9C06-A8FDA866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CB7ECC-E0F9-459F-9D90-1588775B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A03FCB-E9B1-4873-A22E-E099A8C2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00547C-855B-450E-8513-E42A75D1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EB90-D50D-4997-9B04-8B3B4798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935C1-5A9D-4428-908B-8024448A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D12083-8DA2-416F-AC5A-B75F88B5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3E23AB-8B87-4A82-92F8-55BFD9FA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7FE389-C687-46B3-AEF9-9C997DB3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911D0F-ED44-4741-A20F-54BBD4EA5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7C4C97-B003-427F-8221-FB746EEEC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558EC0-3B28-4B1E-986A-20CA39191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342D1F-104F-458E-B8CB-1D51FA66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96617E-C8F3-47CB-8D6C-496EAEC9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E47FEC-996F-4E23-9D41-BAA6BA28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DDFBDB-DACA-4B0E-8B2F-A2D5DE4E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FFD9-01E6-4DD9-932B-F1D3082D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A8A825-237D-40A0-ABAD-3D62BFBB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3B5FDE-70E9-46E8-B6A0-DC14A2AE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905F34-980C-4A0D-8CF5-4574A47A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DAA947-F5C8-4302-9775-11A745A0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530119-33D9-4290-B2C6-9CF9C023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899ABB-A91D-43BE-B7B6-145491223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4E2737-75FE-4639-B889-34E3DEFD8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600007-1579-432F-80A6-A9A847B17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110AC1-7508-482B-9ECF-234E1CFB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676218-58F7-4B4D-A397-D3F6809E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4141-A98C-4421-B578-CE78AD03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97D544-252D-4A06-A08D-AA88AC64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A3B500-F5BB-46FA-A9DB-8B1E076D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5D68D2-14B9-4FB3-A23D-EC907DFC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6FD1AC-F190-4246-960F-A5A5E68E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C95CCA-3101-4D2C-BC99-3CB36069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FB5F3F-3D56-44DC-853D-B251D6AB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40ABE1-E587-4ED8-BDCF-ACD634B4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197763-AB3D-477E-A0DB-0612EA8F3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1DBD37-ED0F-45EE-8657-9E0CEEA61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096FE8-7C4D-49B4-B56F-54F1001DB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0885-2D21-41F7-A3F3-68D2A6E60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C7B2D5-2FD6-4C5A-A6C8-CE6253E2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26C6CD-3969-49EC-BE5C-E58C5016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F6F2B8-9EBC-4C6A-A7DE-5484B3FA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FECEEE-D124-4C99-BA36-CDDA5D1B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E47168-8CB4-4E85-AD68-07B64113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F8E689-B202-486B-A574-8EA57185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501066-31E2-4892-8145-4DA4FBC5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926D2C-6E9E-467E-BEA5-9EFFBF5D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F864FA-CD7B-48D5-A6F6-3E1AF544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301996-8743-4152-BD95-6E4756F99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9E19-BC89-4F60-96A7-89221679E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2498F3-1F13-48BD-82B9-A517FD218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43B7B7-253F-4564-983E-8477FEE33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32CF26-DE03-458A-9FE9-F732C3AC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5498AC-B33C-47CE-AE03-F00063FE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01AEF8-764B-498E-A0A0-571B9A94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B454C3-1D31-4911-9BA4-1CBD8A64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47FDD5-9E65-40A4-A9B0-B5322F21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CE5A50-B2B1-40F6-A425-6EA3B1AF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041842-5FEA-4A81-A308-AEE68BB2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243CC9-B979-4C4F-ADDE-DF84E6AF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750DC-30F0-4081-86DA-277285062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94AB2B-69C4-4D28-B6EE-68DCDBBB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6F796B-F031-4538-84DE-53FE54C57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84F2BE-8C22-42E7-BDBA-547409D0F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0B39D9-4080-418B-B640-B6F3D8CA3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66AF77-F695-49B4-8818-3D306968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9BFF81-5389-4FED-85EF-ED7CE23E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FC86F0-8F67-4C4D-8352-0961D902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7D5913-2ABA-46C9-935D-86A1B028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F5140D-D1CC-4C73-9ECD-565B004E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830C6A-532A-428C-B02E-C1EB9A25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96420-5162-4B21-A031-6E0F55F9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242FB9-E920-4FEC-B33C-D72644F9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A1C4A4-D6E6-434D-879D-79228635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1752D6-1AC4-4B9F-9CFC-F63956CD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6A3AB4-7374-4A82-AE5F-4AC258960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7CBF34-026D-4EEA-BC45-F4F6F3FA3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A902E2-9E7B-4AD3-82E7-29CE32C78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BBCBCA-9D84-4176-BD1C-19890408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EFD97A-F3D1-418C-B3A6-7BD7F4D0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FAC09D-FD98-4953-A4CB-E9753BAC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3004B4-49B2-4B8C-890A-EC2A11DD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E43BF-94C2-4A62-8791-B29D279A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D8C8EC-242B-4529-B1F6-5B552A20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928ED0-C261-427E-B44B-06E64D70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3957FB-E31D-4B65-B809-DEFE8AEF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7D8310-2F3E-4360-8068-BD81862F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7FAA22-245F-4B2B-AD11-3E191768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6F7987-CCEF-4C0A-89D2-E61F5E92C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1F677C-9F00-43BE-812C-3A9543758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315E1-324C-4A3A-80E1-685A15EE3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F4786-E100-4C8E-BAFA-0060A4DB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C161-56AC-47B6-B9BB-E1B8D679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1E26D-D63D-4CE7-9CD7-7B56F6B1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D1B5A-D7FF-47B4-B6D7-24DDE558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5C211-7BAC-43A7-BD44-E9353D87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FA8EA-C4EF-45FF-97E4-1C53F899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D10C8-97D1-4871-BA3C-1306B9C4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68C25-2742-4E40-B38A-A272123E3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891B2-8022-4138-8B48-F6A2A6F15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F69A2-16D8-48E5-AA4B-18500B908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8A072-E782-41BD-8F84-9CFA924A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E1502-41D9-4635-B133-C9FBB398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F0F7-98F3-46D0-94C5-8344E372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A11BE-AD4C-4DEB-A661-FEADA49D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3547C-2BE9-4B98-8DD9-8D21968F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D96AA-29C5-4460-87E2-A0150EC8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9683F-69A9-40EF-B3C0-12D672B3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E4AC6-4276-4F4A-A181-BF8008A1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813E4-8882-4E66-8DEB-43E0C4C6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C9A26-051D-44E8-9986-143A9C2F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052A4-A18A-4081-9ADC-8E505E095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539EF-56E9-4AAB-ACA1-BE219B107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BB6DD-E26D-4664-B714-067A96684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392E-E51A-4493-9779-6770B8A8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9B5F5-E69D-48F5-BE02-E7B5F4DB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FA61E-E654-469B-BF52-6ADA1EA7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71398-D743-4A2C-A274-546A04E1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BA5F3-1E08-42F1-AFA8-4B136512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365B8-9854-452B-8154-3AC54B34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17C83-0257-4CF0-A938-124CBED9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3B2FF-2C47-4B88-816F-86FA84B5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EA719-42E6-4FA4-AFB3-D8A409EC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FD6F4-DD7A-4FE2-94FC-990F5F74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0ED1E-7049-4E25-9539-CB2E1C366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1F5B-7280-48BF-8C7F-40AB9008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16A84-B8D2-4BDB-BE87-0F80A9381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56C7C-2A6A-44FB-9096-97C91A22B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665B0-0F23-402E-B546-52E1AE28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C2BCD-B6AE-4F7A-99AB-4BF2DE14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599B3-C821-4F7C-8782-3E315512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23E40-75DB-4620-86D8-E181F20E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7D506-CE41-4F08-8C02-258B6170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2A75A-4CE5-4E22-9F36-8E931B16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8DB8A-DFC4-4473-9568-7BD11CB7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D6985-2A65-4849-8F89-BAEFEE0B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39F0-4678-4DA0-8145-BA625130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B9DF2-F6D8-41C1-A7E5-642CE3D7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C2FE8-BA86-4CCB-935C-A5DE1B4CF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C9431-AC4E-46BA-A7FF-4E4A3D090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096C5-0829-433C-904F-71F4A35FA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53831-C91E-45AB-9597-3017CBEC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6CBB2-D761-4492-BE6E-932ED2CD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BAE02-2A4A-4415-B6AD-888D0DA7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9454D-75AA-4EFF-BCA7-2BCD11B8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985C8-2D1C-4935-942C-68C5B482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EE117-2E32-46EA-8A42-637902B5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FC8A-2DE5-4EA9-BEE3-ADECC6D9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7FEDA-CC71-4B7F-B6D7-0C572AF5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50473-7D7C-4E1E-B2CC-C6B9CC9B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07897-79C2-4AA3-A05E-01B316A2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387AB-4C41-4F76-B0A0-7520B672A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4FA37-A980-462E-901C-17AAB6582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718EA-5777-4A0B-816A-CA33E2B9E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7EE04-DBF2-40BA-8FDF-59870579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1C52A-81E6-484C-B67C-8436AB9C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F7C99-CD05-47CC-B3C1-3F151062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D7B51-6722-4640-9393-D74B70E2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3AC8-29D7-442E-8A65-32F31957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9D717-F661-45AD-A5A6-A151EED7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FCEA5-793E-44A3-A539-71FF4C2C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333B1-53B0-442A-83BF-331F728B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C7591-B698-4CE0-893D-902697B7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D9832-57CE-4BA9-81AD-8C94F4A7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E830C-FFBB-4BC9-BB50-1DA26FBA3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C8194-7F94-4D42-BC1E-437E5B198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11305B-7B1E-4579-9C04-C6B22952D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21BCA3-029A-4AE7-BC52-10469695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FC8787-83BD-4DDE-AB12-86CF920B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1FC6-677E-4493-ACFD-8A1EB19420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93C7-3E17-463F-966B-8F72C5E2F1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5527-D17B-4FCE-91ED-F6DC009762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BDD8-3EB5-41A4-B40E-B8F6791D80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487A-09F8-4656-B697-47552F917C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1FB4-41C9-486B-82CE-0407463C1C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3CC1-38B2-4EF1-A901-9A58828E72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8611E-3D96-49B9-A9E6-915159CE5B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A4B7-966B-444A-8ADB-0DF77B1991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1AA6-1D7A-4CCC-9E1C-38DF52DC40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EBA8-4749-4362-A2CB-553A8F1CBC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5763-52F3-4823-B76D-8FB5EBE9D4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18B5-94F9-4A86-88B8-06B37480C1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5ECB-22FE-4C3C-B17B-7E127023C6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89B9-6A79-4800-AB51-9FCA6349DB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2B4F-4C8A-47DF-9A76-9D93D44D91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9A1C-A49D-4A55-8452-E41FE45B26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8A44-BC8F-4595-9F1C-4F3107E663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18B0-77CE-47E7-A2ED-C9DD08F8CC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1459-E219-4CFC-9A90-1BE954560B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90C2-75A0-4B8A-9D0C-87683310AA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D83A-CEDB-43E8-814B-A757D02139C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D4FA-AB0A-47AC-9A86-21E1548516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DD01-680E-4367-87F9-63F85A9D7D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FB96-CF32-4E68-B663-CDB252FBBC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5E64-4DD2-401E-BCD6-22D3B8B829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6909-6278-4EB6-9459-EE0C2717A3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9B03-F501-45B1-AE7D-C66FE5B33B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1461-219A-411B-91E4-427D34064E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1F48-EA33-4378-A20A-748CEA0F96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8178-CD56-4781-80C1-A528F0B947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9448-4F29-47ED-8EFD-702FAB5659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73A7-7C29-40F7-823C-BC34108E36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2901-5348-40A3-816C-BC73BE6D755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B0B2-1B57-4B7D-9FD3-F58FCDBC53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4260-0912-46B5-955E-F675BBD865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CF23-AA31-4DDC-BA67-C4B5A1C3B2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200A-9AA3-4311-A406-CF0BCDBA10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67CF-C323-46B5-B6FC-2EA75DF809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01AA-8661-4E65-BFB0-21B9853245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C6FB-FAA3-4741-8408-5A944C3BBF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00B5-DFB2-4562-A5C3-B9AE0B6F65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47520" y="3024360"/>
            <a:ext cx="9048960" cy="80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8" name="图片 1" descr=""/>
          <p:cNvPicPr/>
          <p:nvPr/>
        </p:nvPicPr>
        <p:blipFill>
          <a:blip r:embed="rId1"/>
          <a:stretch/>
        </p:blipFill>
        <p:spPr>
          <a:xfrm>
            <a:off x="166680" y="861840"/>
            <a:ext cx="8809200" cy="513432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1" descr=""/>
          <p:cNvPicPr/>
          <p:nvPr/>
        </p:nvPicPr>
        <p:blipFill>
          <a:blip r:embed="rId2"/>
          <a:stretch/>
        </p:blipFill>
        <p:spPr>
          <a:xfrm>
            <a:off x="5148360" y="1974960"/>
            <a:ext cx="2160360" cy="47124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" descr=""/>
          <p:cNvPicPr/>
          <p:nvPr/>
        </p:nvPicPr>
        <p:blipFill>
          <a:blip r:embed="rId3"/>
          <a:stretch/>
        </p:blipFill>
        <p:spPr>
          <a:xfrm>
            <a:off x="2340000" y="2565360"/>
            <a:ext cx="1224000" cy="47160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" descr=""/>
          <p:cNvPicPr/>
          <p:nvPr/>
        </p:nvPicPr>
        <p:blipFill>
          <a:blip r:embed="rId4"/>
          <a:stretch/>
        </p:blipFill>
        <p:spPr>
          <a:xfrm>
            <a:off x="7740720" y="2565360"/>
            <a:ext cx="1224000" cy="47160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" descr=""/>
          <p:cNvPicPr/>
          <p:nvPr/>
        </p:nvPicPr>
        <p:blipFill>
          <a:blip r:embed="rId5"/>
          <a:stretch/>
        </p:blipFill>
        <p:spPr>
          <a:xfrm>
            <a:off x="0" y="3141720"/>
            <a:ext cx="4211640" cy="47160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" descr=""/>
          <p:cNvPicPr/>
          <p:nvPr/>
        </p:nvPicPr>
        <p:blipFill>
          <a:blip r:embed="rId6"/>
          <a:stretch/>
        </p:blipFill>
        <p:spPr>
          <a:xfrm>
            <a:off x="4500720" y="3716280"/>
            <a:ext cx="3240000" cy="47160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" descr=""/>
          <p:cNvPicPr/>
          <p:nvPr/>
        </p:nvPicPr>
        <p:blipFill>
          <a:blip r:embed="rId7"/>
          <a:stretch/>
        </p:blipFill>
        <p:spPr>
          <a:xfrm>
            <a:off x="4859280" y="4292640"/>
            <a:ext cx="1224000" cy="47160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" descr=""/>
          <p:cNvPicPr/>
          <p:nvPr/>
        </p:nvPicPr>
        <p:blipFill>
          <a:blip r:embed="rId8"/>
          <a:stretch/>
        </p:blipFill>
        <p:spPr>
          <a:xfrm>
            <a:off x="1042920" y="4854600"/>
            <a:ext cx="1224000" cy="47160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" descr=""/>
          <p:cNvPicPr/>
          <p:nvPr/>
        </p:nvPicPr>
        <p:blipFill>
          <a:blip r:embed="rId9"/>
          <a:stretch/>
        </p:blipFill>
        <p:spPr>
          <a:xfrm>
            <a:off x="4427640" y="5430960"/>
            <a:ext cx="1944720" cy="47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7" name="图片 1" descr=""/>
          <p:cNvPicPr/>
          <p:nvPr/>
        </p:nvPicPr>
        <p:blipFill>
          <a:blip r:embed="rId1"/>
          <a:stretch/>
        </p:blipFill>
        <p:spPr>
          <a:xfrm>
            <a:off x="233280" y="2610000"/>
            <a:ext cx="8675640" cy="163800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" descr=""/>
          <p:cNvPicPr/>
          <p:nvPr/>
        </p:nvPicPr>
        <p:blipFill>
          <a:blip r:embed="rId2"/>
          <a:stretch/>
        </p:blipFill>
        <p:spPr>
          <a:xfrm>
            <a:off x="971640" y="2565360"/>
            <a:ext cx="576000" cy="47160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" descr=""/>
          <p:cNvPicPr/>
          <p:nvPr/>
        </p:nvPicPr>
        <p:blipFill>
          <a:blip r:embed="rId3"/>
          <a:stretch/>
        </p:blipFill>
        <p:spPr>
          <a:xfrm>
            <a:off x="3851280" y="2565360"/>
            <a:ext cx="1008000" cy="47160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1" descr=""/>
          <p:cNvPicPr/>
          <p:nvPr/>
        </p:nvPicPr>
        <p:blipFill>
          <a:blip r:embed="rId4"/>
          <a:stretch/>
        </p:blipFill>
        <p:spPr>
          <a:xfrm>
            <a:off x="3059280" y="3141720"/>
            <a:ext cx="100800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257040" y="1414440"/>
            <a:ext cx="8629920" cy="402912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" descr=""/>
          <p:cNvPicPr/>
          <p:nvPr/>
        </p:nvPicPr>
        <p:blipFill>
          <a:blip r:embed="rId2"/>
          <a:stretch/>
        </p:blipFill>
        <p:spPr>
          <a:xfrm>
            <a:off x="4356000" y="2637000"/>
            <a:ext cx="1295640" cy="39996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3"/>
          <a:stretch/>
        </p:blipFill>
        <p:spPr>
          <a:xfrm>
            <a:off x="4788000" y="3284640"/>
            <a:ext cx="1655640" cy="31896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4"/>
          <a:stretch/>
        </p:blipFill>
        <p:spPr>
          <a:xfrm>
            <a:off x="3780000" y="3870360"/>
            <a:ext cx="1655640" cy="31896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5"/>
          <a:stretch/>
        </p:blipFill>
        <p:spPr>
          <a:xfrm>
            <a:off x="4500720" y="4417920"/>
            <a:ext cx="934920" cy="31932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6"/>
          <a:stretch/>
        </p:blipFill>
        <p:spPr>
          <a:xfrm>
            <a:off x="6012000" y="5013360"/>
            <a:ext cx="9349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图片 1" descr=""/>
          <p:cNvPicPr/>
          <p:nvPr/>
        </p:nvPicPr>
        <p:blipFill>
          <a:blip r:embed="rId1"/>
          <a:stretch/>
        </p:blipFill>
        <p:spPr>
          <a:xfrm>
            <a:off x="209520" y="679320"/>
            <a:ext cx="8724960" cy="612324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2"/>
          <a:stretch/>
        </p:blipFill>
        <p:spPr>
          <a:xfrm>
            <a:off x="539640" y="1197000"/>
            <a:ext cx="576360" cy="47160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3"/>
          <a:stretch/>
        </p:blipFill>
        <p:spPr>
          <a:xfrm>
            <a:off x="539640" y="4076640"/>
            <a:ext cx="57636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图片 1" descr=""/>
          <p:cNvPicPr/>
          <p:nvPr/>
        </p:nvPicPr>
        <p:blipFill>
          <a:blip r:embed="rId1"/>
          <a:stretch/>
        </p:blipFill>
        <p:spPr>
          <a:xfrm>
            <a:off x="219240" y="665280"/>
            <a:ext cx="8705520" cy="615132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576360" cy="47124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3"/>
          <a:stretch/>
        </p:blipFill>
        <p:spPr>
          <a:xfrm>
            <a:off x="539640" y="2924280"/>
            <a:ext cx="576360" cy="47124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4"/>
          <a:stretch/>
        </p:blipFill>
        <p:spPr>
          <a:xfrm>
            <a:off x="539640" y="5229360"/>
            <a:ext cx="576360" cy="47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图片 1" descr=""/>
          <p:cNvPicPr/>
          <p:nvPr/>
        </p:nvPicPr>
        <p:blipFill>
          <a:blip r:embed="rId1"/>
          <a:stretch/>
        </p:blipFill>
        <p:spPr>
          <a:xfrm>
            <a:off x="235080" y="833400"/>
            <a:ext cx="8675640" cy="564840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2"/>
          <a:stretch/>
        </p:blipFill>
        <p:spPr>
          <a:xfrm>
            <a:off x="2700360" y="1936800"/>
            <a:ext cx="2951280" cy="47160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3"/>
          <a:stretch/>
        </p:blipFill>
        <p:spPr>
          <a:xfrm>
            <a:off x="1908000" y="3659040"/>
            <a:ext cx="3888000" cy="47160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4"/>
          <a:stretch/>
        </p:blipFill>
        <p:spPr>
          <a:xfrm>
            <a:off x="2627280" y="4797360"/>
            <a:ext cx="1440000" cy="47160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5"/>
          <a:stretch/>
        </p:blipFill>
        <p:spPr>
          <a:xfrm>
            <a:off x="5940360" y="4797360"/>
            <a:ext cx="1008000" cy="47160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6"/>
          <a:stretch/>
        </p:blipFill>
        <p:spPr>
          <a:xfrm>
            <a:off x="2268360" y="5950080"/>
            <a:ext cx="1008360" cy="47124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7"/>
          <a:stretch/>
        </p:blipFill>
        <p:spPr>
          <a:xfrm>
            <a:off x="4500720" y="5935680"/>
            <a:ext cx="100800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图片 1" descr=""/>
          <p:cNvPicPr/>
          <p:nvPr/>
        </p:nvPicPr>
        <p:blipFill>
          <a:blip r:embed="rId1"/>
          <a:stretch/>
        </p:blipFill>
        <p:spPr>
          <a:xfrm>
            <a:off x="519120" y="2900520"/>
            <a:ext cx="8104320" cy="105696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2"/>
          <a:stretch/>
        </p:blipFill>
        <p:spPr>
          <a:xfrm>
            <a:off x="4356000" y="3414600"/>
            <a:ext cx="230364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图片 1" descr=""/>
          <p:cNvPicPr/>
          <p:nvPr/>
        </p:nvPicPr>
        <p:blipFill>
          <a:blip r:embed="rId1"/>
          <a:stretch/>
        </p:blipFill>
        <p:spPr>
          <a:xfrm>
            <a:off x="206280" y="746280"/>
            <a:ext cx="2914920" cy="419040"/>
          </a:xfrm>
          <a:prstGeom prst="rect">
            <a:avLst/>
          </a:prstGeom>
          <a:ln w="0">
            <a:noFill/>
          </a:ln>
        </p:spPr>
      </p:pic>
      <p:pic>
        <p:nvPicPr>
          <p:cNvPr id="1130" name="图片 2" descr=""/>
          <p:cNvPicPr/>
          <p:nvPr/>
        </p:nvPicPr>
        <p:blipFill>
          <a:blip r:embed="rId2"/>
          <a:stretch/>
        </p:blipFill>
        <p:spPr>
          <a:xfrm>
            <a:off x="206280" y="1165320"/>
            <a:ext cx="8753400" cy="55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图片 1" descr=""/>
          <p:cNvPicPr/>
          <p:nvPr/>
        </p:nvPicPr>
        <p:blipFill>
          <a:blip r:embed="rId1"/>
          <a:stretch/>
        </p:blipFill>
        <p:spPr>
          <a:xfrm>
            <a:off x="200160" y="1162080"/>
            <a:ext cx="874368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图片 1" descr=""/>
          <p:cNvPicPr/>
          <p:nvPr/>
        </p:nvPicPr>
        <p:blipFill>
          <a:blip r:embed="rId1"/>
          <a:stretch/>
        </p:blipFill>
        <p:spPr>
          <a:xfrm>
            <a:off x="142920" y="485640"/>
            <a:ext cx="8858160" cy="629604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2"/>
          <a:stretch/>
        </p:blipFill>
        <p:spPr>
          <a:xfrm>
            <a:off x="539640" y="1052640"/>
            <a:ext cx="576360" cy="47124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3"/>
          <a:stretch/>
        </p:blipFill>
        <p:spPr>
          <a:xfrm>
            <a:off x="539640" y="1700280"/>
            <a:ext cx="576360" cy="47160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4"/>
          <a:stretch/>
        </p:blipFill>
        <p:spPr>
          <a:xfrm>
            <a:off x="971640" y="3357720"/>
            <a:ext cx="6192720" cy="47124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5"/>
          <a:stretch/>
        </p:blipFill>
        <p:spPr>
          <a:xfrm>
            <a:off x="900000" y="5084640"/>
            <a:ext cx="6767640" cy="47160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6"/>
          <a:stretch/>
        </p:blipFill>
        <p:spPr>
          <a:xfrm>
            <a:off x="755640" y="6237360"/>
            <a:ext cx="6767640" cy="47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14:58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